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0.png" ContentType="image/png"/>
  <Override PartName="/ppt/media/image3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98E7B-82AC-41B8-9680-D59B89ED31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6826-EC25-4BE9-A592-969352AB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BF03-B51C-40B2-8414-FFE46CF46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1B5D-687A-4063-8269-8A1F6C134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5583-F6BF-42D9-99EF-CCF19C7A6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87072-4559-412E-8FC8-68518FDDE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D0DCB-36ED-44C5-A98C-2C8D7813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1D8A-6F61-4C2C-8605-64B6440E2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30A5-E1E9-47E4-B176-7EE0CFE7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C6E1-9460-446E-A2B3-A0C06B3F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35707-E9B7-40A2-97D9-921C69B9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DF97A-721D-49E6-9BB5-863A4001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F5DF-FE26-4D73-A33E-0CA8C7D1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06C7-D0CE-4D55-82DF-B715769C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E2312-D505-44D9-A958-D518DBAEE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1CA8-3A05-4C22-83E7-5F96D1404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3705B-8514-4E8A-9BF4-9872373BC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0D769-5337-4210-A8E2-DE807C445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18E9-D97F-4D6A-B072-97E1006EA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6D06-8601-4059-8D4F-DEA302215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5A4A-0731-484B-BB7B-CF2AABBDF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4A1E-4EB1-4CD3-96E2-91FCCFFC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BEE8-4A0A-4935-AD0D-A95BCEC6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6BD1-9470-4DE3-A454-EA52114E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1331-D39F-4D0D-9DDF-C1E57A74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9DF86-77F1-4AE8-BB7C-D9572C2F3596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70B3-AF2D-4653-B6F3-9E0DF4497DF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th12.vln.dreamhosters.com/images/math12.vln.dreamhosters.com/1/16/F(x)_%253D_-absolute_x.jpg&amp;imgrefurl=http://math12.vln.dreamhosters.com/wiki/Polynomic_Functions&amp;usg=__01xGfS9cAeUdBo2sUga4zfy0eZY=&amp;h=259&amp;w=576&amp;sz=18&amp;hl=en&amp;start=13&amp;zoom=1&amp;um=1&amp;itbs=1&amp;tbnid=0GX4kbien9YOvM:&amp;tbnh=60&amp;tbnw=134&amp;prev=/images%3Fq%3Dnegative%2Babsolute%2Bvalue%2Bfunction%2Bgraph%26um%3D1%26hl%3Den%26safe%3Dactive%26sa%3DN%26ndsp%3D20%26tbs%3Disch:1&amp;ei=bzhdTduPLMWblgeI6LDYC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Nam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Dat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Period:</a:t>
            </a:r>
            <a:br>
              <a:rPr sz="20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Topic: </a:t>
            </a:r>
            <a:r>
              <a:rPr b="1" lang="en-US" sz="3200" spc="-1" strike="noStrike" u="sng">
                <a:solidFill>
                  <a:srgbClr val="330033"/>
                </a:solidFill>
                <a:uFillTx/>
                <a:latin typeface="Times New Roman"/>
              </a:rPr>
              <a:t>Graphing Absolute Value Equa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rm-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2880" y="4302000"/>
          <a:ext cx="3581640" cy="2560680"/>
        </p:xfrm>
        <a:graphic>
          <a:graphicData uri="http://schemas.openxmlformats.org/drawingml/2006/table">
            <a:tbl>
              <a:tblPr/>
              <a:tblGrid>
                <a:gridCol w="358920"/>
                <a:gridCol w="357120"/>
                <a:gridCol w="358920"/>
                <a:gridCol w="357120"/>
                <a:gridCol w="358920"/>
                <a:gridCol w="358560"/>
                <a:gridCol w="357120"/>
                <a:gridCol w="358920"/>
                <a:gridCol w="357120"/>
                <a:gridCol w="358920"/>
              </a:tblGrid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</a:tbl>
          </a:graphicData>
        </a:graphic>
      </p:graphicFrame>
      <p:cxnSp>
        <p:nvCxnSpPr>
          <p:cNvPr id="107" name="Straight Arrow Connector 6"/>
          <p:cNvCxnSpPr/>
          <p:nvPr/>
        </p:nvCxnSpPr>
        <p:spPr>
          <a:xfrm>
            <a:off x="6400440" y="4267080"/>
            <a:ext cx="1080" cy="274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8" name="Straight Arrow Connector 10"/>
          <p:cNvCxnSpPr/>
          <p:nvPr/>
        </p:nvCxnSpPr>
        <p:spPr>
          <a:xfrm flipH="1">
            <a:off x="4876200" y="5790960"/>
            <a:ext cx="3734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9" name="Straight Arrow Connector 27"/>
          <p:cNvCxnSpPr/>
          <p:nvPr/>
        </p:nvCxnSpPr>
        <p:spPr>
          <a:xfrm flipV="1">
            <a:off x="4952520" y="4191120"/>
            <a:ext cx="2591640" cy="266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rizont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275602\Local Settings\Temporary Internet Files\Content.IE5\8CZ25BBI\MC900434403[1].wmf"/>
          <p:cNvPicPr/>
          <p:nvPr/>
        </p:nvPicPr>
        <p:blipFill>
          <a:blip r:embed="rId1"/>
          <a:stretch/>
        </p:blipFill>
        <p:spPr>
          <a:xfrm>
            <a:off x="7848720" y="457200"/>
            <a:ext cx="604800" cy="847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5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6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4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1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│x - 4 │+ 5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3" descr="C:\Users\user\AppData\Local\Microsoft\Windows\Temporary Internet Files\Content.IE5\RKD2LOJ0\MM900282747[1].gif"/>
          <p:cNvPicPr/>
          <p:nvPr/>
        </p:nvPicPr>
        <p:blipFill>
          <a:blip r:embed="rId1"/>
          <a:stretch/>
        </p:blipFill>
        <p:spPr>
          <a:xfrm rot="21299400">
            <a:off x="73915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274320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-│x - 2 │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Picture 2" descr="C:\Users\user\AppData\Local\Microsoft\Windows\Temporary Internet Files\Content.IE5\FMINL040\MC900383550[1].wmf"/>
          <p:cNvPicPr/>
          <p:nvPr/>
        </p:nvPicPr>
        <p:blipFill>
          <a:blip r:embed="rId1"/>
          <a:stretch/>
        </p:blipFill>
        <p:spPr>
          <a:xfrm rot="21028800">
            <a:off x="685440" y="3429000"/>
            <a:ext cx="1425600" cy="313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user\AppData\Local\Microsoft\Windows\Temporary Internet Files\Content.IE5\RKD2LOJ0\MM900282747[1].gif"/>
          <p:cNvPicPr/>
          <p:nvPr/>
        </p:nvPicPr>
        <p:blipFill>
          <a:blip r:embed="rId2"/>
          <a:stretch/>
        </p:blipFill>
        <p:spPr>
          <a:xfrm>
            <a:off x="76201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user\AppData\Local\Microsoft\Windows\Temporary Internet Files\Content.IE5\NNA2BYPD\MC900293468[1].wmf"/>
          <p:cNvPicPr/>
          <p:nvPr/>
        </p:nvPicPr>
        <p:blipFill>
          <a:blip r:embed="rId3"/>
          <a:stretch/>
        </p:blipFill>
        <p:spPr>
          <a:xfrm>
            <a:off x="685800" y="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user\AppData\Local\Microsoft\Windows\Temporary Internet Files\Content.IE5\FMINL040\MC900304311[1].wmf"/>
          <p:cNvPicPr/>
          <p:nvPr/>
        </p:nvPicPr>
        <p:blipFill>
          <a:blip r:embed="rId4"/>
          <a:stretch/>
        </p:blipFill>
        <p:spPr>
          <a:xfrm flipH="1">
            <a:off x="7620120" y="4724280"/>
            <a:ext cx="1295280" cy="18097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-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Picture 2" descr="http://t0.gstatic.com/images?q=tbn:ANd9GcQ2HTiFzrEdIDpgHTabub4GZ2eioCGCh3SeFhpX8LnZrBQw-eIhxSIIAa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3982680" y="5715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:\Documents and Settings\275602\Local Settings\Temporary Internet Files\Content.IE5\GUNV34DJ\MC900440412[1].wmf"/>
          <p:cNvPicPr/>
          <p:nvPr/>
        </p:nvPicPr>
        <p:blipFill>
          <a:blip r:embed="rId3"/>
          <a:stretch/>
        </p:blipFill>
        <p:spPr>
          <a:xfrm>
            <a:off x="8001000" y="6176880"/>
            <a:ext cx="839880" cy="681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4124520" y="213372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C:\Users\user\AppData\Local\Microsoft\Windows\Temporary Internet Files\Content.IE5\RKD2LOJ0\MC900440516[1].wmf"/>
          <p:cNvPicPr/>
          <p:nvPr/>
        </p:nvPicPr>
        <p:blipFill>
          <a:blip r:embed="rId4"/>
          <a:stretch/>
        </p:blipFill>
        <p:spPr>
          <a:xfrm>
            <a:off x="7696080" y="281952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C:\Users\user\AppData\Local\Microsoft\Windows\Temporary Internet Files\Content.IE5\M5XL5LPK\MM900282742[1].gif"/>
          <p:cNvPicPr/>
          <p:nvPr/>
        </p:nvPicPr>
        <p:blipFill>
          <a:blip r:embed="rId5"/>
          <a:stretch/>
        </p:blipFill>
        <p:spPr>
          <a:xfrm>
            <a:off x="0" y="5105520"/>
            <a:ext cx="1219320" cy="1752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actice Time!!!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lgebra Aerobics!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447920"/>
            <a:ext cx="4343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3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3│ + 3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0" y="1371600"/>
            <a:ext cx="4572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6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1│ - 1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Mix Algebra Aerob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160020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4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2120" y="36576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5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057120" y="5715000"/>
            <a:ext cx="24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│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010920" y="182880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2│ -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853240" y="3733920"/>
            <a:ext cx="29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7│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46360" y="525780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x + 3y ≤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176520" y="5181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813840" y="44956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≥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359160" y="281952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≥ -3x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305920" cy="5029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143000" y="1486080"/>
            <a:ext cx="7696080" cy="5371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Home-Learning Assignment #5 Review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62120" y="1666800"/>
            <a:ext cx="8153280" cy="51912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bal Comprehension Analy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unctions y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│x │ and y = │x - 3 │ together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│x │- 3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- │x │ together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negative sign have on the graph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ap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Quiz #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Graphing Absolute Value Equation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0" y="5057640"/>
            <a:ext cx="1347840" cy="180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7000920" y="0"/>
            <a:ext cx="214308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5"/>
          <a:stretch/>
        </p:blipFill>
        <p:spPr>
          <a:xfrm>
            <a:off x="3429000" y="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bsolute value transformation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ifts the parent function graph horizontally and ver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f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reates a mirror image of the parent-function graph across the line of ref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ent Function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2" descr="http://schoolwires.henry.k12.ga.us/437520715143758627/lib/437520715143758627/absolute_value_function_graph.gif"/>
          <p:cNvPicPr/>
          <p:nvPr/>
        </p:nvPicPr>
        <p:blipFill>
          <a:blip r:embed="rId1"/>
          <a:stretch/>
        </p:blipFill>
        <p:spPr>
          <a:xfrm>
            <a:off x="762120" y="1752480"/>
            <a:ext cx="7816680" cy="441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user\AppData\Local\Microsoft\Windows\Temporary Internet Files\Content.IE5\NNA2BYPD\MC900446036[1].wmf"/>
          <p:cNvPicPr/>
          <p:nvPr/>
        </p:nvPicPr>
        <p:blipFill>
          <a:blip r:embed="rId2"/>
          <a:stretch/>
        </p:blipFill>
        <p:spPr>
          <a:xfrm>
            <a:off x="7391520" y="5005440"/>
            <a:ext cx="1752480" cy="18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user\AppData\Local\Microsoft\Windows\Temporary Internet Files\Content.IE5\M5XL5LPK\MC900292252[1].wmf"/>
          <p:cNvPicPr/>
          <p:nvPr/>
        </p:nvPicPr>
        <p:blipFill>
          <a:blip r:embed="rId3"/>
          <a:stretch/>
        </p:blipFill>
        <p:spPr>
          <a:xfrm flipH="1">
            <a:off x="0" y="5124600"/>
            <a:ext cx="1168560" cy="1733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tic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275602\Local Settings\Temporary Internet Files\Content.IE5\L9JD6LDM\MC900434411[1].wmf"/>
          <p:cNvPicPr/>
          <p:nvPr/>
        </p:nvPicPr>
        <p:blipFill>
          <a:blip r:embed="rId1"/>
          <a:stretch/>
        </p:blipFill>
        <p:spPr>
          <a:xfrm>
            <a:off x="7162920" y="228600"/>
            <a:ext cx="1041120" cy="1171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1:06:11Z</dcterms:created>
  <dc:creator>Jane Neff</dc:creator>
  <dc:description/>
  <dc:language>en-US</dc:language>
  <cp:lastModifiedBy>LEGION</cp:lastModifiedBy>
  <dcterms:modified xsi:type="dcterms:W3CDTF">2017-07-06T06:35:02Z</dcterms:modified>
  <cp:revision>58</cp:revision>
  <dc:subject/>
  <dc:title>Graphing Absolute Value Equations</dc:title>
</cp:coreProperties>
</file>